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A07-0AF6-4CB7-9790-0C843254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834-CB0A-43F5-B086-BB6219A1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60A-5A8F-4938-BAA0-B92CBFE1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13A-F15E-4907-B4D8-A8DE221F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3C6-BE4E-45AB-833F-229401CD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D0D-20BA-4AA6-A607-BE570574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53E-47B4-4A20-8C42-13D0BCD0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FFF-75B5-4D20-A371-44690F2E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937-1A06-4BC2-BA78-7F0EAD0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3FA-FB29-4C5C-B4AE-4095B83B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38D-BA7D-4CF9-A027-2880764D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53D-2E51-484A-A637-EC472C33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F6A2-8C0F-42B6-A0C2-7BDFDA54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Baskerville Old Face"/>
              </a:rPr>
              <a:t>This is GGGRREEECCCEEE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3389400"/>
            <a:ext cx="4419720" cy="346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4724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s the Geography of Idaho Impacted your l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had the same impact on Ancient Gree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81280" y="5591160"/>
            <a:ext cx="23814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of Ancient Gr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eece has a Mediterranean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Winters mild and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-allows limited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-grew grapes and ol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ummers are warm and 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-leads to dr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-grapes and olives some of few plants that can survive drou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mb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reece receives 2.2 inches of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average temp. is balmy 64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oise/Nampa gets 1.6 inches of precip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verage temp is cold 39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AT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2819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3817800"/>
            <a:ext cx="4876920" cy="3040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Greece is located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Greece is very mountaino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Around 75% of Greece is mountainous terrai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Difficult to f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Surrounded by se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Greece is located on the Balkan Peninsu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Made trade easi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- could get what they couldn’t g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-allowed for ideas to flow free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543440" y="55627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01000" y="53341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ow Greeks worked with their environ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Cut off by the mountains and the s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Isol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Led to the formation of city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Limited unity and interaction in Ancient Gree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Fierce rivalries between city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Sea became v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Hundreds of bays for safety of Greek 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Skilled sai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Traded olives, grapes &amp; mar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Got grains, metals &amp;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-Adapted Phoenician alphab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-Became base for all Western alphabe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0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Ancient Greece map"/>
          <p:cNvPicPr/>
          <p:nvPr/>
        </p:nvPicPr>
        <p:blipFill>
          <a:blip r:embed="rId2"/>
          <a:stretch/>
        </p:blipFill>
        <p:spPr>
          <a:xfrm>
            <a:off x="1066680" y="1189080"/>
            <a:ext cx="64771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5:59:40Z</dcterms:created>
  <dc:creator>jobert</dc:creator>
  <dc:description/>
  <dc:language>en-US</dc:language>
  <cp:lastModifiedBy>jobert</cp:lastModifiedBy>
  <dcterms:modified xsi:type="dcterms:W3CDTF">2014-01-13T20:27:07Z</dcterms:modified>
  <cp:revision>7</cp:revision>
  <dc:subject/>
  <dc:title>This is GGGRREEECCCEEE!!!!!</dc:title>
</cp:coreProperties>
</file>